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D4E-D7E1-48A4-B063-21A34E87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5BC1-793D-4B4A-AAAC-D266EFB5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7CC-B321-4585-ADF8-35339F6B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5C4-87BD-4E55-A8C7-FB9AF182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5F7-0F69-45F7-B6CA-D26FEEEC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3503-7FD9-48F9-B955-4E258A46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117-9EFD-4B6F-A5FF-1A5825AA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A24-B9B0-4D3B-A65D-F5A3C5C7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32E-CF00-4C1C-BF4E-74B0F15A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874-BAE5-424E-A9E2-63D1E2F6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C332-E16A-43FA-A020-5987F7E8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430-7CA1-41A7-B1DD-29E5ED04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7F58-B8E7-4666-AB0D-0E14D5A1295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3969-ED26-44A2-ADE3-DD2717EFC6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ff8d3e"/>
                </a:solidFill>
                <a:latin typeface="Calibri"/>
              </a:rPr>
              <a:t>Algebraic Fractions and </a:t>
            </a:r>
            <a:br>
              <a:rPr sz="4400"/>
            </a:br>
            <a:r>
              <a:rPr b="0" lang="en-GB" sz="4400" spc="-1" strike="noStrike">
                <a:solidFill>
                  <a:srgbClr val="ff8d3e"/>
                </a:solidFill>
                <a:latin typeface="Calibri"/>
              </a:rPr>
              <a:t>Rational Equ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Equ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ction Button: Home 2"/>
          <p:cNvSpPr/>
          <p:nvPr/>
        </p:nvSpPr>
        <p:spPr>
          <a:xfrm>
            <a:off x="7929720" y="6000840"/>
            <a:ext cx="714240" cy="42840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8000" y="3837"/>
                </a:moveTo>
                <a:lnTo>
                  <a:pt x="20576" y="6448"/>
                </a:ln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lnTo>
                  <a:pt x="24963" y="10800"/>
                </a:lnTo>
                <a:lnTo>
                  <a:pt x="23309" y="10800"/>
                </a:lnTo>
                <a:lnTo>
                  <a:pt x="23309" y="17989"/>
                </a:lnTo>
                <a:lnTo>
                  <a:pt x="12691" y="17989"/>
                </a:lnTo>
                <a:lnTo>
                  <a:pt x="12691" y="10800"/>
                </a:lnTo>
                <a:lnTo>
                  <a:pt x="11037" y="10800"/>
                </a:lnTo>
                <a:close/>
              </a:path>
              <a:path fill="darkenLess" w="36000" h="21600">
                <a:moveTo>
                  <a:pt x="20576" y="6448"/>
                </a:move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close/>
              </a:path>
              <a:path fill="darkenLess" w="36000" h="21600">
                <a:moveTo>
                  <a:pt x="17077" y="14299"/>
                </a:moveTo>
                <a:lnTo>
                  <a:pt x="18923" y="14299"/>
                </a:lnTo>
                <a:lnTo>
                  <a:pt x="18923" y="17989"/>
                </a:lnTo>
                <a:lnTo>
                  <a:pt x="23309" y="17989"/>
                </a:lnTo>
                <a:lnTo>
                  <a:pt x="23309" y="10800"/>
                </a:lnTo>
                <a:lnTo>
                  <a:pt x="12691" y="10800"/>
                </a:lnTo>
                <a:lnTo>
                  <a:pt x="12691" y="17989"/>
                </a:lnTo>
                <a:lnTo>
                  <a:pt x="170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318320" y="1285920"/>
            <a:ext cx="610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nce you know how to simplify algebraic fractions,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an solve equations containing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"/>
              <p:cNvSpPr txBox="1"/>
              <p:nvPr/>
            </p:nvSpPr>
            <p:spPr>
              <a:xfrm>
                <a:off x="2357280" y="2714760"/>
                <a:ext cx="16480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"/>
              <p:cNvSpPr txBox="1"/>
              <p:nvPr/>
            </p:nvSpPr>
            <p:spPr>
              <a:xfrm>
                <a:off x="4205160" y="2714760"/>
                <a:ext cx="236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Box 6"/>
          <p:cNvSpPr/>
          <p:nvPr/>
        </p:nvSpPr>
        <p:spPr>
          <a:xfrm>
            <a:off x="2601360" y="3929040"/>
            <a:ext cx="36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lick an equation to see it 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2071800" y="571680"/>
                <a:ext cx="164772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Box 3"/>
          <p:cNvSpPr/>
          <p:nvPr/>
        </p:nvSpPr>
        <p:spPr>
          <a:xfrm>
            <a:off x="891360" y="78588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1000080" y="1725480"/>
                <a:ext cx="332568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985680" y="2816280"/>
                <a:ext cx="21574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5"/>
              <p:cNvSpPr txBox="1"/>
              <p:nvPr/>
            </p:nvSpPr>
            <p:spPr>
              <a:xfrm>
                <a:off x="1000080" y="3929040"/>
                <a:ext cx="1496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6"/>
              <p:cNvSpPr txBox="1"/>
              <p:nvPr/>
            </p:nvSpPr>
            <p:spPr>
              <a:xfrm>
                <a:off x="1000080" y="5295960"/>
                <a:ext cx="1587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3044880" y="5032440"/>
                <a:ext cx="1496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4" name="Action Button: Custom 10" descr=""/>
          <p:cNvPicPr/>
          <p:nvPr/>
        </p:nvPicPr>
        <p:blipFill>
          <a:blip r:embed="rId1"/>
          <a:stretch/>
        </p:blipFill>
        <p:spPr>
          <a:xfrm>
            <a:off x="7553160" y="5979960"/>
            <a:ext cx="107820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3"/>
          <p:cNvSpPr/>
          <p:nvPr/>
        </p:nvSpPr>
        <p:spPr>
          <a:xfrm>
            <a:off x="891360" y="78588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Action Button: Custom 10" descr=""/>
          <p:cNvPicPr/>
          <p:nvPr/>
        </p:nvPicPr>
        <p:blipFill>
          <a:blip r:embed="rId1"/>
          <a:stretch/>
        </p:blipFill>
        <p:spPr>
          <a:xfrm>
            <a:off x="7553160" y="5979960"/>
            <a:ext cx="1078200" cy="439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1928880" y="571680"/>
                <a:ext cx="236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9"/>
              <p:cNvSpPr txBox="1"/>
              <p:nvPr/>
            </p:nvSpPr>
            <p:spPr>
              <a:xfrm>
                <a:off x="1285920" y="1643040"/>
                <a:ext cx="40752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1285920" y="2757600"/>
                <a:ext cx="31464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1"/>
              <p:cNvSpPr txBox="1"/>
              <p:nvPr/>
            </p:nvSpPr>
            <p:spPr>
              <a:xfrm>
                <a:off x="4929120" y="2714760"/>
                <a:ext cx="19782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2"/>
              <p:cNvSpPr txBox="1"/>
              <p:nvPr/>
            </p:nvSpPr>
            <p:spPr>
              <a:xfrm>
                <a:off x="1258920" y="3929040"/>
                <a:ext cx="20988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3"/>
              <p:cNvSpPr txBox="1"/>
              <p:nvPr/>
            </p:nvSpPr>
            <p:spPr>
              <a:xfrm>
                <a:off x="1268280" y="4643280"/>
                <a:ext cx="15894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4"/>
              <p:cNvSpPr txBox="1"/>
              <p:nvPr/>
            </p:nvSpPr>
            <p:spPr>
              <a:xfrm>
                <a:off x="1905120" y="5286240"/>
                <a:ext cx="8096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79200" y="7225920"/>
            <a:ext cx="111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Rational Equ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685800" y="74916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equation in the previous example is called a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rational equation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4"/>
          <p:cNvGrpSpPr/>
          <p:nvPr/>
        </p:nvGrpSpPr>
        <p:grpSpPr>
          <a:xfrm>
            <a:off x="685800" y="1600200"/>
            <a:ext cx="8699400" cy="822240"/>
            <a:chOff x="685800" y="1600200"/>
            <a:chExt cx="8699400" cy="822240"/>
          </a:xfrm>
        </p:grpSpPr>
        <p:sp>
          <p:nvSpPr>
            <p:cNvPr id="158" name="Rectangle 4"/>
            <p:cNvSpPr/>
            <p:nvPr/>
          </p:nvSpPr>
          <p:spPr>
            <a:xfrm>
              <a:off x="685800" y="1676520"/>
              <a:ext cx="869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and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are rational equation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1066680" y="1676520"/>
                  <a:ext cx="1155960" cy="74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3048120" y="1600200"/>
                  <a:ext cx="1950840" cy="79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1" name="Rectangle 8"/>
          <p:cNvSpPr/>
          <p:nvPr/>
        </p:nvSpPr>
        <p:spPr>
          <a:xfrm>
            <a:off x="1231920" y="5216400"/>
            <a:ext cx="52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Check the solu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231920" y="4797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Solve the resulting polynomial eq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231920" y="3984480"/>
            <a:ext cx="72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Clear denominators by multiplying both sides of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quation by the L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1231920" y="351144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Find the LCM of the denominato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5"/>
          <p:cNvGrpSpPr/>
          <p:nvPr/>
        </p:nvGrpSpPr>
        <p:grpSpPr>
          <a:xfrm>
            <a:off x="609480" y="2908440"/>
            <a:ext cx="7874280" cy="2869920"/>
            <a:chOff x="609480" y="2908440"/>
            <a:chExt cx="7874280" cy="2869920"/>
          </a:xfrm>
        </p:grpSpPr>
        <p:sp>
          <p:nvSpPr>
            <p:cNvPr id="166" name="Rectangle 7"/>
            <p:cNvSpPr/>
            <p:nvPr/>
          </p:nvSpPr>
          <p:spPr>
            <a:xfrm>
              <a:off x="685800" y="2971800"/>
              <a:ext cx="501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To solve a rational equatio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609480" y="2908440"/>
              <a:ext cx="7874280" cy="2869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79200" y="7225920"/>
            <a:ext cx="111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Examples: Solv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oup 38"/>
          <p:cNvGrpSpPr/>
          <p:nvPr/>
        </p:nvGrpSpPr>
        <p:grpSpPr>
          <a:xfrm>
            <a:off x="482760" y="590400"/>
            <a:ext cx="4508280" cy="746280"/>
            <a:chOff x="482760" y="590400"/>
            <a:chExt cx="4508280" cy="746280"/>
          </a:xfrm>
        </p:grpSpPr>
        <p:sp>
          <p:nvSpPr>
            <p:cNvPr id="170" name="Rectangle 3"/>
            <p:cNvSpPr/>
            <p:nvPr/>
          </p:nvSpPr>
          <p:spPr>
            <a:xfrm>
              <a:off x="482760" y="733320"/>
              <a:ext cx="450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Examples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CA" sz="1800" spc="-1" strike="noStrike">
                  <a:solidFill>
                    <a:srgbClr val="ff0000"/>
                  </a:solidFill>
                  <a:latin typeface="Arial"/>
                </a:rPr>
                <a:t>1.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 Solve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3097080" y="590400"/>
                  <a:ext cx="154008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2" name="Text Box 7"/>
          <p:cNvSpPr/>
          <p:nvPr/>
        </p:nvSpPr>
        <p:spPr>
          <a:xfrm>
            <a:off x="5373720" y="1360440"/>
            <a:ext cx="307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99ff"/>
                </a:solidFill>
                <a:latin typeface="Arial"/>
              </a:rPr>
              <a:t>Multiply by LCM = (</a:t>
            </a:r>
            <a:r>
              <a:rPr b="0" i="1" lang="en-CA" sz="2000" spc="-1" strike="noStrike">
                <a:solidFill>
                  <a:srgbClr val="0099ff"/>
                </a:solidFill>
                <a:latin typeface="Arial"/>
              </a:rPr>
              <a:t>x</a:t>
            </a:r>
            <a:r>
              <a:rPr b="0" lang="en-CA" sz="2000" spc="-1" strike="noStrike">
                <a:solidFill>
                  <a:srgbClr val="0099ff"/>
                </a:solidFill>
                <a:latin typeface="Arial"/>
              </a:rPr>
              <a:t> – 3)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5365440" y="1779480"/>
            <a:ext cx="145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99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3454560" y="133020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3473280" y="173664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5373000" y="22240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Ch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5408280" y="298620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5"/>
          <p:cNvGrpSpPr/>
          <p:nvPr/>
        </p:nvGrpSpPr>
        <p:grpSpPr>
          <a:xfrm>
            <a:off x="2907000" y="1982880"/>
            <a:ext cx="1947600" cy="846000"/>
            <a:chOff x="2907000" y="1982880"/>
            <a:chExt cx="1947600" cy="846000"/>
          </a:xfrm>
        </p:grpSpPr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2930760" y="2082960"/>
                  <a:ext cx="1923840" cy="74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     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      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      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0" name="Text Box 17"/>
            <p:cNvSpPr/>
            <p:nvPr/>
          </p:nvSpPr>
          <p:spPr>
            <a:xfrm>
              <a:off x="2907000" y="2370240"/>
              <a:ext cx="459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(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8"/>
            <p:cNvSpPr/>
            <p:nvPr/>
          </p:nvSpPr>
          <p:spPr>
            <a:xfrm>
              <a:off x="3999240" y="1982880"/>
              <a:ext cx="459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(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9"/>
            <p:cNvSpPr/>
            <p:nvPr/>
          </p:nvSpPr>
          <p:spPr>
            <a:xfrm>
              <a:off x="4011840" y="2370240"/>
              <a:ext cx="459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(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295800" y="2844720"/>
                <a:ext cx="11300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Text Box 21"/>
          <p:cNvSpPr/>
          <p:nvPr/>
        </p:nvSpPr>
        <p:spPr>
          <a:xfrm>
            <a:off x="6391080" y="29844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Tr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9"/>
          <p:cNvGrpSpPr/>
          <p:nvPr/>
        </p:nvGrpSpPr>
        <p:grpSpPr>
          <a:xfrm>
            <a:off x="1905120" y="3765600"/>
            <a:ext cx="2793960" cy="745920"/>
            <a:chOff x="1905120" y="3765600"/>
            <a:chExt cx="2793960" cy="745920"/>
          </a:xfrm>
        </p:grpSpPr>
        <p:sp>
          <p:nvSpPr>
            <p:cNvPr id="186" name="Rectangle 22"/>
            <p:cNvSpPr/>
            <p:nvPr/>
          </p:nvSpPr>
          <p:spPr>
            <a:xfrm>
              <a:off x="1905120" y="3895560"/>
              <a:ext cx="279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ff0000"/>
                  </a:solidFill>
                  <a:latin typeface="Arial"/>
                </a:rPr>
                <a:t>2. 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Solve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3110040" y="3765600"/>
                  <a:ext cx="1106280" cy="74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8" name="Rectangle 24"/>
          <p:cNvSpPr/>
          <p:nvPr/>
        </p:nvSpPr>
        <p:spPr>
          <a:xfrm>
            <a:off x="2673360" y="5324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– 1 = 2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6508080" y="395136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Find the L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7"/>
          <p:cNvSpPr/>
          <p:nvPr/>
        </p:nvSpPr>
        <p:spPr>
          <a:xfrm>
            <a:off x="4621680" y="3843360"/>
            <a:ext cx="1815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M =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– 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9"/>
          <p:cNvSpPr/>
          <p:nvPr/>
        </p:nvSpPr>
        <p:spPr>
          <a:xfrm>
            <a:off x="5411880" y="476424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Multiply by L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0"/>
          <p:cNvSpPr/>
          <p:nvPr/>
        </p:nvSpPr>
        <p:spPr>
          <a:xfrm>
            <a:off x="5406480" y="536724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1"/>
          <p:cNvSpPr/>
          <p:nvPr/>
        </p:nvSpPr>
        <p:spPr>
          <a:xfrm>
            <a:off x="3130560" y="5762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2"/>
          <p:cNvSpPr/>
          <p:nvPr/>
        </p:nvSpPr>
        <p:spPr>
          <a:xfrm>
            <a:off x="5379120" y="581184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Sol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2"/>
          <p:cNvGrpSpPr/>
          <p:nvPr/>
        </p:nvGrpSpPr>
        <p:grpSpPr>
          <a:xfrm>
            <a:off x="2013120" y="4567320"/>
            <a:ext cx="3379680" cy="819000"/>
            <a:chOff x="2013120" y="4567320"/>
            <a:chExt cx="3379680" cy="81900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2013120" y="4567320"/>
                  <a:ext cx="250164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</m:e>
                      </m:d>
                      <m:r>
                        <m:rPr>
                          <m:lit/>
                          <m:nor/>
                        </m:rPr>
                        <m:t xml:space="preserve">             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2479680" y="4782960"/>
                  <a:ext cx="291312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              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79200" y="7225920"/>
            <a:ext cx="111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Example: Solv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85800" y="50004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fter clearing denominators,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a solution of the polynomial equation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may make a denominator of the rational equation ze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994040" y="3017880"/>
            <a:ext cx="42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– 1 = (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– 1)(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1992240" y="5332320"/>
            <a:ext cx="67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CA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kes both denominators zero, the rational equation has </a:t>
            </a: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no solution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21"/>
          <p:cNvGrpSpPr/>
          <p:nvPr/>
        </p:nvGrpSpPr>
        <p:grpSpPr>
          <a:xfrm>
            <a:off x="685800" y="2152800"/>
            <a:ext cx="5956200" cy="745920"/>
            <a:chOff x="685800" y="2152800"/>
            <a:chExt cx="5956200" cy="745920"/>
          </a:xfrm>
        </p:grpSpPr>
        <p:sp>
          <p:nvSpPr>
            <p:cNvPr id="204" name="Rectangle 4"/>
            <p:cNvSpPr/>
            <p:nvPr/>
          </p:nvSpPr>
          <p:spPr>
            <a:xfrm>
              <a:off x="685800" y="2282760"/>
              <a:ext cx="595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Example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Solve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895480" y="2152800"/>
                  <a:ext cx="1587600" cy="74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Rectangle 9"/>
          <p:cNvSpPr/>
          <p:nvPr/>
        </p:nvSpPr>
        <p:spPr>
          <a:xfrm>
            <a:off x="4019400" y="4792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= 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CA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3537000" y="436104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+ 1 =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2065680" y="53323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981080" y="1719360"/>
            <a:ext cx="46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It is critical to check all solution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685800" y="1236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 this case, the value is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not a solution of the rational equation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5556240" y="3019320"/>
            <a:ext cx="42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LCM = </a:t>
            </a:r>
            <a:r>
              <a:rPr b="0" lang="en-CA" sz="1800" spc="-1" strike="noStrike">
                <a:solidFill>
                  <a:srgbClr val="008080"/>
                </a:solidFill>
                <a:latin typeface="Arial"/>
              </a:rPr>
              <a:t>(</a:t>
            </a:r>
            <a:r>
              <a:rPr b="0" i="1" lang="en-CA" sz="1800" spc="-1" strike="noStrike">
                <a:solidFill>
                  <a:srgbClr val="00808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8080"/>
                </a:solidFill>
                <a:latin typeface="Arial"/>
              </a:rPr>
              <a:t> – 1)(</a:t>
            </a:r>
            <a:r>
              <a:rPr b="0" i="1" lang="en-CA" sz="1800" spc="-1" strike="noStrike">
                <a:solidFill>
                  <a:srgbClr val="00808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8080"/>
                </a:solidFill>
                <a:latin typeface="Arial"/>
              </a:rPr>
              <a:t> + 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2"/>
          <p:cNvGrpSpPr/>
          <p:nvPr/>
        </p:nvGrpSpPr>
        <p:grpSpPr>
          <a:xfrm>
            <a:off x="1998720" y="3546360"/>
            <a:ext cx="4944960" cy="817560"/>
            <a:chOff x="1998720" y="3546360"/>
            <a:chExt cx="4944960" cy="817560"/>
          </a:xfrm>
        </p:grpSpPr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1998720" y="3546360"/>
                  <a:ext cx="353700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d>
                      <m:r>
                        <m:rPr>
                          <m:lit/>
                          <m:nor/>
                        </m:rPr>
                        <m:t xml:space="preserve">                     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2951280" y="3762360"/>
                  <a:ext cx="399240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              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79200" y="7225920"/>
            <a:ext cx="111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Example: Solv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63BD-925A-4781-AFB4-7869F007BB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42"/>
          <p:cNvGrpSpPr/>
          <p:nvPr/>
        </p:nvGrpSpPr>
        <p:grpSpPr>
          <a:xfrm>
            <a:off x="914400" y="527040"/>
            <a:ext cx="6083280" cy="746280"/>
            <a:chOff x="914400" y="527040"/>
            <a:chExt cx="6083280" cy="746280"/>
          </a:xfrm>
        </p:grpSpPr>
        <p:sp>
          <p:nvSpPr>
            <p:cNvPr id="218" name="Rectangle 4"/>
            <p:cNvSpPr/>
            <p:nvPr/>
          </p:nvSpPr>
          <p:spPr>
            <a:xfrm>
              <a:off x="914400" y="669960"/>
              <a:ext cx="608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Example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: Solve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3132000" y="527040"/>
                  <a:ext cx="231012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0" name="Text Box 6"/>
          <p:cNvSpPr/>
          <p:nvPr/>
        </p:nvSpPr>
        <p:spPr>
          <a:xfrm>
            <a:off x="5107680" y="148104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F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5059440" y="364824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Polynomial Eq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5142960" y="421308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5107680" y="477216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F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5864040" y="1481040"/>
            <a:ext cx="30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The LCM is (</a:t>
            </a:r>
            <a:r>
              <a:rPr b="0" i="1" lang="en-US" sz="2000" spc="-1" strike="noStrike">
                <a:solidFill>
                  <a:srgbClr val="0099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 – 3)(</a:t>
            </a:r>
            <a:r>
              <a:rPr b="0" i="1" lang="en-US" sz="2000" spc="-1" strike="noStrike">
                <a:solidFill>
                  <a:srgbClr val="0099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 – 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1900080" y="1430280"/>
            <a:ext cx="2936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8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15 =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– 3)(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–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2258640" y="3602160"/>
            <a:ext cx="149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– 5) = 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1911600" y="4167360"/>
            <a:ext cx="1640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– 5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+ 6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1649880" y="4707000"/>
            <a:ext cx="186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– 2)(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– 3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043000" y="5272200"/>
            <a:ext cx="151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7"/>
          <p:cNvSpPr/>
          <p:nvPr/>
        </p:nvSpPr>
        <p:spPr>
          <a:xfrm>
            <a:off x="5146560" y="515448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99ff"/>
                </a:solidFill>
                <a:latin typeface="Arial"/>
              </a:rPr>
              <a:t>Check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. </a:t>
            </a:r>
            <a:r>
              <a:rPr b="0" i="1" lang="en-US" sz="2000" spc="-1" strike="noStrike">
                <a:solidFill>
                  <a:srgbClr val="0099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 = 2 is a solu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5146560" y="5562720"/>
            <a:ext cx="39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99ff"/>
                </a:solidFill>
                <a:latin typeface="Arial"/>
              </a:rPr>
              <a:t>Check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.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 is not a solution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 since both sides would b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ndefined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535120" y="2000160"/>
                <a:ext cx="23097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Text Box 31"/>
          <p:cNvSpPr/>
          <p:nvPr/>
        </p:nvSpPr>
        <p:spPr>
          <a:xfrm>
            <a:off x="5081040" y="2104920"/>
            <a:ext cx="22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Original Eq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3"/>
          <p:cNvGrpSpPr/>
          <p:nvPr/>
        </p:nvGrpSpPr>
        <p:grpSpPr>
          <a:xfrm>
            <a:off x="3396600" y="5428440"/>
            <a:ext cx="244080" cy="243000"/>
            <a:chOff x="3396600" y="5428440"/>
            <a:chExt cx="244080" cy="243000"/>
          </a:xfrm>
        </p:grpSpPr>
        <p:sp>
          <p:nvSpPr>
            <p:cNvPr id="235" name="Line 34"/>
            <p:cNvSpPr/>
            <p:nvPr/>
          </p:nvSpPr>
          <p:spPr>
            <a:xfrm>
              <a:off x="3396600" y="5428440"/>
              <a:ext cx="242640" cy="24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 flipV="1">
              <a:off x="3398040" y="5428800"/>
              <a:ext cx="242640" cy="24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43"/>
          <p:cNvGrpSpPr/>
          <p:nvPr/>
        </p:nvGrpSpPr>
        <p:grpSpPr>
          <a:xfrm>
            <a:off x="811080" y="2797200"/>
            <a:ext cx="5791320" cy="817560"/>
            <a:chOff x="811080" y="2797200"/>
            <a:chExt cx="5791320" cy="817560"/>
          </a:xfrm>
        </p:grpSpPr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811080" y="2797200"/>
                  <a:ext cx="430704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  <m:r>
                        <m:rPr>
                          <m:lit/>
                          <m:nor/>
                        </m:rPr>
                        <m:t xml:space="preserve">                    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1644480" y="3013200"/>
                  <a:ext cx="4957920" cy="38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           </m:t>
                      </m:r>
                      <m:r>
                        <m:rPr>
                          <m:lit/>
                          <m:nor/>
                        </m:rPr>
                        <m:t xml:space="preserve">       </m:t>
                      </m:r>
                      <m:r>
                        <m:rPr>
                          <m:lit/>
                          <m:nor/>
                        </m:rPr>
                        <m:t xml:space="preserve">   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42960" y="857160"/>
            <a:ext cx="575784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this discussion, we will look at examples of simplifying Algebraic Fractions using the 4 rules of fractio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64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tangl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72320" y="2000160"/>
            <a:ext cx="804960" cy="10414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72320" y="2664000"/>
            <a:ext cx="750960" cy="104292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772320" y="3260880"/>
            <a:ext cx="804960" cy="104292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772320" y="3925800"/>
            <a:ext cx="8049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dd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6072120" y="4857840"/>
                <a:ext cx="25671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3"/>
              <p:cNvSpPr txBox="1"/>
              <p:nvPr/>
            </p:nvSpPr>
            <p:spPr>
              <a:xfrm>
                <a:off x="2143080" y="714240"/>
                <a:ext cx="15001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TextBox 4"/>
          <p:cNvSpPr/>
          <p:nvPr/>
        </p:nvSpPr>
        <p:spPr>
          <a:xfrm>
            <a:off x="899640" y="78588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2003400" y="1908000"/>
                <a:ext cx="25862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5"/>
              <p:cNvSpPr txBox="1"/>
              <p:nvPr/>
            </p:nvSpPr>
            <p:spPr>
              <a:xfrm>
                <a:off x="2000160" y="3019320"/>
                <a:ext cx="191628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2000160" y="4091040"/>
                <a:ext cx="166068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5" name="Rectangle 8" descr=""/>
          <p:cNvPicPr/>
          <p:nvPr/>
        </p:nvPicPr>
        <p:blipFill>
          <a:blip r:embed="rId1"/>
          <a:stretch/>
        </p:blipFill>
        <p:spPr>
          <a:xfrm>
            <a:off x="5205240" y="4992840"/>
            <a:ext cx="804960" cy="1042920"/>
          </a:xfrm>
          <a:prstGeom prst="rect">
            <a:avLst/>
          </a:prstGeom>
          <a:ln w="0">
            <a:noFill/>
          </a:ln>
        </p:spPr>
      </p:pic>
      <p:sp>
        <p:nvSpPr>
          <p:cNvPr id="56" name="Action Button: Home 9">
            <a:hlinkClick r:id="rId2" action="ppaction://hlinksldjump"/>
          </p:cNvPr>
          <p:cNvSpPr/>
          <p:nvPr/>
        </p:nvSpPr>
        <p:spPr>
          <a:xfrm>
            <a:off x="7929720" y="6000840"/>
            <a:ext cx="714240" cy="42840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8000" y="3837"/>
                </a:moveTo>
                <a:lnTo>
                  <a:pt x="20576" y="6448"/>
                </a:ln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lnTo>
                  <a:pt x="24963" y="10800"/>
                </a:lnTo>
                <a:lnTo>
                  <a:pt x="23309" y="10800"/>
                </a:lnTo>
                <a:lnTo>
                  <a:pt x="23309" y="17989"/>
                </a:lnTo>
                <a:lnTo>
                  <a:pt x="12691" y="17989"/>
                </a:lnTo>
                <a:lnTo>
                  <a:pt x="12691" y="10800"/>
                </a:lnTo>
                <a:lnTo>
                  <a:pt x="11037" y="10800"/>
                </a:lnTo>
                <a:close/>
              </a:path>
              <a:path fill="darkenLess" w="36000" h="21600">
                <a:moveTo>
                  <a:pt x="20576" y="6448"/>
                </a:move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close/>
              </a:path>
              <a:path fill="darkenLess" w="36000" h="21600">
                <a:moveTo>
                  <a:pt x="17077" y="14299"/>
                </a:moveTo>
                <a:lnTo>
                  <a:pt x="18923" y="14299"/>
                </a:lnTo>
                <a:lnTo>
                  <a:pt x="18923" y="17989"/>
                </a:lnTo>
                <a:lnTo>
                  <a:pt x="23309" y="17989"/>
                </a:lnTo>
                <a:lnTo>
                  <a:pt x="23309" y="10800"/>
                </a:lnTo>
                <a:lnTo>
                  <a:pt x="12691" y="10800"/>
                </a:lnTo>
                <a:lnTo>
                  <a:pt x="12691" y="17989"/>
                </a:lnTo>
                <a:lnTo>
                  <a:pt x="170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dd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6072120" y="4857840"/>
                <a:ext cx="25671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2286000" y="682560"/>
                <a:ext cx="121428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TextBox 4"/>
          <p:cNvSpPr/>
          <p:nvPr/>
        </p:nvSpPr>
        <p:spPr>
          <a:xfrm>
            <a:off x="899640" y="78588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2003400" y="1908000"/>
                <a:ext cx="25862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7"/>
              <p:cNvSpPr txBox="1"/>
              <p:nvPr/>
            </p:nvSpPr>
            <p:spPr>
              <a:xfrm>
                <a:off x="2000160" y="3027240"/>
                <a:ext cx="15955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3" name="Rectangle 9" descr=""/>
          <p:cNvPicPr/>
          <p:nvPr/>
        </p:nvPicPr>
        <p:blipFill>
          <a:blip r:embed="rId1"/>
          <a:stretch/>
        </p:blipFill>
        <p:spPr>
          <a:xfrm>
            <a:off x="5205240" y="4925880"/>
            <a:ext cx="804960" cy="1041480"/>
          </a:xfrm>
          <a:prstGeom prst="rect">
            <a:avLst/>
          </a:prstGeom>
          <a:ln w="0">
            <a:noFill/>
          </a:ln>
        </p:spPr>
      </p:pic>
      <p:sp>
        <p:nvSpPr>
          <p:cNvPr id="64" name="Action Button: Home 10">
            <a:hlinkClick r:id="rId2" action="ppaction://hlinksldjump"/>
          </p:cNvPr>
          <p:cNvSpPr/>
          <p:nvPr/>
        </p:nvSpPr>
        <p:spPr>
          <a:xfrm>
            <a:off x="7929720" y="6000840"/>
            <a:ext cx="714240" cy="42840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8000" y="3837"/>
                </a:moveTo>
                <a:lnTo>
                  <a:pt x="20576" y="6448"/>
                </a:ln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lnTo>
                  <a:pt x="24963" y="10800"/>
                </a:lnTo>
                <a:lnTo>
                  <a:pt x="23309" y="10800"/>
                </a:lnTo>
                <a:lnTo>
                  <a:pt x="23309" y="17989"/>
                </a:lnTo>
                <a:lnTo>
                  <a:pt x="12691" y="17989"/>
                </a:lnTo>
                <a:lnTo>
                  <a:pt x="12691" y="10800"/>
                </a:lnTo>
                <a:lnTo>
                  <a:pt x="11037" y="10800"/>
                </a:lnTo>
                <a:close/>
              </a:path>
              <a:path fill="darkenLess" w="36000" h="21600">
                <a:moveTo>
                  <a:pt x="20576" y="6448"/>
                </a:move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close/>
              </a:path>
              <a:path fill="darkenLess" w="36000" h="21600">
                <a:moveTo>
                  <a:pt x="17077" y="14299"/>
                </a:moveTo>
                <a:lnTo>
                  <a:pt x="18923" y="14299"/>
                </a:lnTo>
                <a:lnTo>
                  <a:pt x="18923" y="17989"/>
                </a:lnTo>
                <a:lnTo>
                  <a:pt x="23309" y="17989"/>
                </a:lnTo>
                <a:lnTo>
                  <a:pt x="23309" y="10800"/>
                </a:lnTo>
                <a:lnTo>
                  <a:pt x="12691" y="10800"/>
                </a:lnTo>
                <a:lnTo>
                  <a:pt x="12691" y="17989"/>
                </a:lnTo>
                <a:lnTo>
                  <a:pt x="170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ubtr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6072120" y="4857840"/>
                <a:ext cx="25671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2254320" y="682560"/>
                <a:ext cx="127800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TextBox 4"/>
          <p:cNvSpPr/>
          <p:nvPr/>
        </p:nvSpPr>
        <p:spPr>
          <a:xfrm>
            <a:off x="899640" y="78588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4300560" y="674640"/>
                <a:ext cx="28116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7"/>
              <p:cNvSpPr txBox="1"/>
              <p:nvPr/>
            </p:nvSpPr>
            <p:spPr>
              <a:xfrm>
                <a:off x="1928880" y="1857240"/>
                <a:ext cx="16286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9"/>
              <p:cNvSpPr txBox="1"/>
              <p:nvPr/>
            </p:nvSpPr>
            <p:spPr>
              <a:xfrm>
                <a:off x="1911240" y="3143160"/>
                <a:ext cx="166068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Straight Connector 12"/>
          <p:cNvSpPr/>
          <p:nvPr/>
        </p:nvSpPr>
        <p:spPr>
          <a:xfrm flipH="1">
            <a:off x="2268000" y="3071880"/>
            <a:ext cx="357480" cy="642960"/>
          </a:xfrm>
          <a:prstGeom prst="line">
            <a:avLst/>
          </a:prstGeom>
          <a:ln w="42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13"/>
          <p:cNvSpPr/>
          <p:nvPr/>
        </p:nvSpPr>
        <p:spPr>
          <a:xfrm>
            <a:off x="2982240" y="3643200"/>
            <a:ext cx="214200" cy="357480"/>
          </a:xfrm>
          <a:prstGeom prst="line">
            <a:avLst/>
          </a:prstGeom>
          <a:ln w="42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0"/>
              <p:cNvSpPr txBox="1"/>
              <p:nvPr/>
            </p:nvSpPr>
            <p:spPr>
              <a:xfrm>
                <a:off x="1952640" y="4214880"/>
                <a:ext cx="140508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5" name="Rectangle 16" descr=""/>
          <p:cNvPicPr/>
          <p:nvPr/>
        </p:nvPicPr>
        <p:blipFill>
          <a:blip r:embed="rId1"/>
          <a:stretch/>
        </p:blipFill>
        <p:spPr>
          <a:xfrm>
            <a:off x="5492880" y="4925880"/>
            <a:ext cx="536400" cy="1041480"/>
          </a:xfrm>
          <a:prstGeom prst="rect">
            <a:avLst/>
          </a:prstGeom>
          <a:ln w="0">
            <a:noFill/>
          </a:ln>
        </p:spPr>
      </p:pic>
      <p:sp>
        <p:nvSpPr>
          <p:cNvPr id="76" name="Action Button: Home 17">
            <a:hlinkClick r:id="rId2" action="ppaction://hlinksldjump"/>
          </p:cNvPr>
          <p:cNvSpPr/>
          <p:nvPr/>
        </p:nvSpPr>
        <p:spPr>
          <a:xfrm>
            <a:off x="7929720" y="6000840"/>
            <a:ext cx="714240" cy="42840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8000" y="3837"/>
                </a:moveTo>
                <a:lnTo>
                  <a:pt x="20576" y="6448"/>
                </a:ln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lnTo>
                  <a:pt x="24963" y="10800"/>
                </a:lnTo>
                <a:lnTo>
                  <a:pt x="23309" y="10800"/>
                </a:lnTo>
                <a:lnTo>
                  <a:pt x="23309" y="17989"/>
                </a:lnTo>
                <a:lnTo>
                  <a:pt x="12691" y="17989"/>
                </a:lnTo>
                <a:lnTo>
                  <a:pt x="12691" y="10800"/>
                </a:lnTo>
                <a:lnTo>
                  <a:pt x="11037" y="10800"/>
                </a:lnTo>
                <a:close/>
              </a:path>
              <a:path fill="darkenLess" w="36000" h="21600">
                <a:moveTo>
                  <a:pt x="20576" y="6448"/>
                </a:move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close/>
              </a:path>
              <a:path fill="darkenLess" w="36000" h="21600">
                <a:moveTo>
                  <a:pt x="17077" y="14299"/>
                </a:moveTo>
                <a:lnTo>
                  <a:pt x="18923" y="14299"/>
                </a:lnTo>
                <a:lnTo>
                  <a:pt x="18923" y="17989"/>
                </a:lnTo>
                <a:lnTo>
                  <a:pt x="23309" y="17989"/>
                </a:lnTo>
                <a:lnTo>
                  <a:pt x="23309" y="10800"/>
                </a:lnTo>
                <a:lnTo>
                  <a:pt x="12691" y="10800"/>
                </a:lnTo>
                <a:lnTo>
                  <a:pt x="12691" y="17989"/>
                </a:lnTo>
                <a:lnTo>
                  <a:pt x="170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b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6072120" y="4857840"/>
                <a:ext cx="25671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2097000" y="714240"/>
                <a:ext cx="233208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TextBox 4"/>
          <p:cNvSpPr/>
          <p:nvPr/>
        </p:nvSpPr>
        <p:spPr>
          <a:xfrm>
            <a:off x="899640" y="78588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4734000" y="714240"/>
                <a:ext cx="348120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9"/>
              <p:cNvSpPr txBox="1"/>
              <p:nvPr/>
            </p:nvSpPr>
            <p:spPr>
              <a:xfrm>
                <a:off x="1714680" y="2000160"/>
                <a:ext cx="26193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0"/>
              <p:cNvSpPr txBox="1"/>
              <p:nvPr/>
            </p:nvSpPr>
            <p:spPr>
              <a:xfrm>
                <a:off x="4714920" y="2000160"/>
                <a:ext cx="14047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1"/>
              <p:cNvSpPr txBox="1"/>
              <p:nvPr/>
            </p:nvSpPr>
            <p:spPr>
              <a:xfrm>
                <a:off x="1619280" y="3297240"/>
                <a:ext cx="15969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Straight Connector 15"/>
          <p:cNvSpPr/>
          <p:nvPr/>
        </p:nvSpPr>
        <p:spPr>
          <a:xfrm flipH="1">
            <a:off x="1982880" y="3357720"/>
            <a:ext cx="231840" cy="357120"/>
          </a:xfrm>
          <a:prstGeom prst="line">
            <a:avLst/>
          </a:prstGeom>
          <a:ln w="42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6"/>
          <p:cNvSpPr/>
          <p:nvPr/>
        </p:nvSpPr>
        <p:spPr>
          <a:xfrm>
            <a:off x="2428200" y="3857760"/>
            <a:ext cx="214200" cy="357120"/>
          </a:xfrm>
          <a:prstGeom prst="line">
            <a:avLst/>
          </a:prstGeom>
          <a:ln w="42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2727720" y="382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2"/>
              <p:cNvSpPr txBox="1"/>
              <p:nvPr/>
            </p:nvSpPr>
            <p:spPr>
              <a:xfrm>
                <a:off x="1571760" y="4368960"/>
                <a:ext cx="11491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9" name="Rectangle 22" descr=""/>
          <p:cNvPicPr/>
          <p:nvPr/>
        </p:nvPicPr>
        <p:blipFill>
          <a:blip r:embed="rId1"/>
          <a:stretch/>
        </p:blipFill>
        <p:spPr>
          <a:xfrm>
            <a:off x="5492880" y="4925880"/>
            <a:ext cx="536400" cy="1041480"/>
          </a:xfrm>
          <a:prstGeom prst="rect">
            <a:avLst/>
          </a:prstGeom>
          <a:ln w="0">
            <a:noFill/>
          </a:ln>
        </p:spPr>
      </p:pic>
      <p:sp>
        <p:nvSpPr>
          <p:cNvPr id="90" name="Action Button: Home 23">
            <a:hlinkClick r:id="rId2" action="ppaction://hlinksldjump"/>
          </p:cNvPr>
          <p:cNvSpPr/>
          <p:nvPr/>
        </p:nvSpPr>
        <p:spPr>
          <a:xfrm>
            <a:off x="7929720" y="6000840"/>
            <a:ext cx="714240" cy="42840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8000" y="3837"/>
                </a:moveTo>
                <a:lnTo>
                  <a:pt x="20576" y="6448"/>
                </a:ln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lnTo>
                  <a:pt x="24963" y="10800"/>
                </a:lnTo>
                <a:lnTo>
                  <a:pt x="23309" y="10800"/>
                </a:lnTo>
                <a:lnTo>
                  <a:pt x="23309" y="17989"/>
                </a:lnTo>
                <a:lnTo>
                  <a:pt x="12691" y="17989"/>
                </a:lnTo>
                <a:lnTo>
                  <a:pt x="12691" y="10800"/>
                </a:lnTo>
                <a:lnTo>
                  <a:pt x="11037" y="10800"/>
                </a:lnTo>
                <a:close/>
              </a:path>
              <a:path fill="darkenLess" w="36000" h="21600">
                <a:moveTo>
                  <a:pt x="20576" y="6448"/>
                </a:move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close/>
              </a:path>
              <a:path fill="darkenLess" w="36000" h="21600">
                <a:moveTo>
                  <a:pt x="17077" y="14299"/>
                </a:moveTo>
                <a:lnTo>
                  <a:pt x="18923" y="14299"/>
                </a:lnTo>
                <a:lnTo>
                  <a:pt x="18923" y="17989"/>
                </a:lnTo>
                <a:lnTo>
                  <a:pt x="23309" y="17989"/>
                </a:lnTo>
                <a:lnTo>
                  <a:pt x="23309" y="10800"/>
                </a:lnTo>
                <a:lnTo>
                  <a:pt x="12691" y="10800"/>
                </a:lnTo>
                <a:lnTo>
                  <a:pt x="12691" y="17989"/>
                </a:lnTo>
                <a:lnTo>
                  <a:pt x="170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ultipl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6662880" y="4857840"/>
                <a:ext cx="18381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2286000" y="571680"/>
                <a:ext cx="14698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TextBox 4"/>
          <p:cNvSpPr/>
          <p:nvPr/>
        </p:nvSpPr>
        <p:spPr>
          <a:xfrm>
            <a:off x="899640" y="78588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13" descr=""/>
          <p:cNvPicPr/>
          <p:nvPr/>
        </p:nvPicPr>
        <p:blipFill>
          <a:blip r:embed="rId1"/>
          <a:stretch/>
        </p:blipFill>
        <p:spPr>
          <a:xfrm>
            <a:off x="5638680" y="4925880"/>
            <a:ext cx="804960" cy="1041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" name="Object 9"/>
              <p:cNvSpPr txBox="1"/>
              <p:nvPr/>
            </p:nvSpPr>
            <p:spPr>
              <a:xfrm>
                <a:off x="1992240" y="1897200"/>
                <a:ext cx="19162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0"/>
              <p:cNvSpPr txBox="1"/>
              <p:nvPr/>
            </p:nvSpPr>
            <p:spPr>
              <a:xfrm>
                <a:off x="2000160" y="3111480"/>
                <a:ext cx="16290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ultipl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6662880" y="4857840"/>
                <a:ext cx="18381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3"/>
              <p:cNvSpPr txBox="1"/>
              <p:nvPr/>
            </p:nvSpPr>
            <p:spPr>
              <a:xfrm>
                <a:off x="2184480" y="654120"/>
                <a:ext cx="21733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TextBox 4"/>
          <p:cNvSpPr/>
          <p:nvPr/>
        </p:nvSpPr>
        <p:spPr>
          <a:xfrm>
            <a:off x="899640" y="78588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tangle 13" descr=""/>
          <p:cNvPicPr/>
          <p:nvPr/>
        </p:nvPicPr>
        <p:blipFill>
          <a:blip r:embed="rId1"/>
          <a:stretch/>
        </p:blipFill>
        <p:spPr>
          <a:xfrm>
            <a:off x="5638680" y="4925880"/>
            <a:ext cx="804960" cy="1041480"/>
          </a:xfrm>
          <a:prstGeom prst="rect">
            <a:avLst/>
          </a:prstGeom>
          <a:ln w="0">
            <a:noFill/>
          </a:ln>
        </p:spPr>
      </p:pic>
      <p:sp>
        <p:nvSpPr>
          <p:cNvPr id="103" name="Action Button: Home 14">
            <a:hlinkClick r:id="rId2" action="ppaction://hlinksldjump"/>
          </p:cNvPr>
          <p:cNvSpPr/>
          <p:nvPr/>
        </p:nvSpPr>
        <p:spPr>
          <a:xfrm>
            <a:off x="7929720" y="6000840"/>
            <a:ext cx="714240" cy="42840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8000" y="3837"/>
                </a:moveTo>
                <a:lnTo>
                  <a:pt x="20576" y="6448"/>
                </a:ln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lnTo>
                  <a:pt x="24963" y="10800"/>
                </a:lnTo>
                <a:lnTo>
                  <a:pt x="23309" y="10800"/>
                </a:lnTo>
                <a:lnTo>
                  <a:pt x="23309" y="17989"/>
                </a:lnTo>
                <a:lnTo>
                  <a:pt x="12691" y="17989"/>
                </a:lnTo>
                <a:lnTo>
                  <a:pt x="12691" y="10800"/>
                </a:lnTo>
                <a:lnTo>
                  <a:pt x="11037" y="10800"/>
                </a:lnTo>
                <a:close/>
              </a:path>
              <a:path fill="darkenLess" w="36000" h="21600">
                <a:moveTo>
                  <a:pt x="20576" y="6448"/>
                </a:move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close/>
              </a:path>
              <a:path fill="darkenLess" w="36000" h="21600">
                <a:moveTo>
                  <a:pt x="17077" y="14299"/>
                </a:moveTo>
                <a:lnTo>
                  <a:pt x="18923" y="14299"/>
                </a:lnTo>
                <a:lnTo>
                  <a:pt x="18923" y="17989"/>
                </a:lnTo>
                <a:lnTo>
                  <a:pt x="23309" y="17989"/>
                </a:lnTo>
                <a:lnTo>
                  <a:pt x="23309" y="10800"/>
                </a:lnTo>
                <a:lnTo>
                  <a:pt x="12691" y="10800"/>
                </a:lnTo>
                <a:lnTo>
                  <a:pt x="12691" y="17989"/>
                </a:lnTo>
                <a:lnTo>
                  <a:pt x="170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4786200" y="642960"/>
                <a:ext cx="22669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1857240" y="1857240"/>
                <a:ext cx="24894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TextBox 10"/>
          <p:cNvSpPr/>
          <p:nvPr/>
        </p:nvSpPr>
        <p:spPr>
          <a:xfrm>
            <a:off x="5285520" y="2214720"/>
            <a:ext cx="1846440" cy="368280"/>
          </a:xfrm>
          <a:prstGeom prst="rect">
            <a:avLst/>
          </a:prstGeom>
          <a:gradFill rotWithShape="0">
            <a:gsLst>
              <a:gs pos="0">
                <a:srgbClr val="d1deee"/>
              </a:gs>
              <a:gs pos="100000">
                <a:srgbClr val="8dabcc"/>
              </a:gs>
            </a:gsLst>
            <a:lin ang="54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actoring (2x-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2"/>
          <p:cNvSpPr/>
          <p:nvPr/>
        </p:nvSpPr>
        <p:spPr>
          <a:xfrm>
            <a:off x="2571840" y="1928880"/>
            <a:ext cx="928440" cy="357120"/>
          </a:xfrm>
          <a:prstGeom prst="line">
            <a:avLst/>
          </a:prstGeom>
          <a:ln w="381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7"/>
          <p:cNvSpPr/>
          <p:nvPr/>
        </p:nvSpPr>
        <p:spPr>
          <a:xfrm>
            <a:off x="3357720" y="2500200"/>
            <a:ext cx="928440" cy="357480"/>
          </a:xfrm>
          <a:prstGeom prst="line">
            <a:avLst/>
          </a:prstGeom>
          <a:ln w="381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8"/>
          <p:cNvSpPr/>
          <p:nvPr/>
        </p:nvSpPr>
        <p:spPr>
          <a:xfrm flipH="1">
            <a:off x="2428560" y="2500200"/>
            <a:ext cx="214200" cy="285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20"/>
          <p:cNvSpPr/>
          <p:nvPr/>
        </p:nvSpPr>
        <p:spPr>
          <a:xfrm flipH="1">
            <a:off x="3643200" y="1928880"/>
            <a:ext cx="214560" cy="285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1"/>
          <p:cNvSpPr/>
          <p:nvPr/>
        </p:nvSpPr>
        <p:spPr>
          <a:xfrm>
            <a:off x="1941840" y="2428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7"/>
              <p:cNvSpPr txBox="1"/>
              <p:nvPr/>
            </p:nvSpPr>
            <p:spPr>
              <a:xfrm>
                <a:off x="1843200" y="3286080"/>
                <a:ext cx="13716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1830240" y="4264200"/>
                <a:ext cx="6699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ivi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2"/>
              <p:cNvSpPr txBox="1"/>
              <p:nvPr/>
            </p:nvSpPr>
            <p:spPr>
              <a:xfrm>
                <a:off x="6647040" y="4857840"/>
                <a:ext cx="18698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Box 4"/>
          <p:cNvSpPr/>
          <p:nvPr/>
        </p:nvSpPr>
        <p:spPr>
          <a:xfrm>
            <a:off x="899640" y="78588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Rectangle 13" descr=""/>
          <p:cNvPicPr/>
          <p:nvPr/>
        </p:nvPicPr>
        <p:blipFill>
          <a:blip r:embed="rId1"/>
          <a:stretch/>
        </p:blipFill>
        <p:spPr>
          <a:xfrm>
            <a:off x="5638680" y="4925880"/>
            <a:ext cx="804960" cy="1041480"/>
          </a:xfrm>
          <a:prstGeom prst="rect">
            <a:avLst/>
          </a:prstGeom>
          <a:ln w="0">
            <a:noFill/>
          </a:ln>
        </p:spPr>
      </p:pic>
      <p:sp>
        <p:nvSpPr>
          <p:cNvPr id="118" name="Action Button: Home 14">
            <a:hlinkClick r:id="rId2" action="ppaction://hlinksldjump"/>
          </p:cNvPr>
          <p:cNvSpPr/>
          <p:nvPr/>
        </p:nvSpPr>
        <p:spPr>
          <a:xfrm>
            <a:off x="7929720" y="6000840"/>
            <a:ext cx="714240" cy="42840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8000" y="3837"/>
                </a:moveTo>
                <a:lnTo>
                  <a:pt x="20576" y="6448"/>
                </a:ln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lnTo>
                  <a:pt x="24963" y="10800"/>
                </a:lnTo>
                <a:lnTo>
                  <a:pt x="23309" y="10800"/>
                </a:lnTo>
                <a:lnTo>
                  <a:pt x="23309" y="17989"/>
                </a:lnTo>
                <a:lnTo>
                  <a:pt x="12691" y="17989"/>
                </a:lnTo>
                <a:lnTo>
                  <a:pt x="12691" y="10800"/>
                </a:lnTo>
                <a:lnTo>
                  <a:pt x="11037" y="10800"/>
                </a:lnTo>
                <a:close/>
              </a:path>
              <a:path fill="darkenLess" w="36000" h="21600">
                <a:moveTo>
                  <a:pt x="20576" y="6448"/>
                </a:move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close/>
              </a:path>
              <a:path fill="darkenLess" w="36000" h="21600">
                <a:moveTo>
                  <a:pt x="17077" y="14299"/>
                </a:moveTo>
                <a:lnTo>
                  <a:pt x="18923" y="14299"/>
                </a:lnTo>
                <a:lnTo>
                  <a:pt x="18923" y="17989"/>
                </a:lnTo>
                <a:lnTo>
                  <a:pt x="23309" y="17989"/>
                </a:lnTo>
                <a:lnTo>
                  <a:pt x="23309" y="10800"/>
                </a:lnTo>
                <a:lnTo>
                  <a:pt x="12691" y="10800"/>
                </a:lnTo>
                <a:lnTo>
                  <a:pt x="12691" y="17989"/>
                </a:lnTo>
                <a:lnTo>
                  <a:pt x="170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2567160" y="654120"/>
                <a:ext cx="14065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9"/>
              <p:cNvSpPr txBox="1"/>
              <p:nvPr/>
            </p:nvSpPr>
            <p:spPr>
              <a:xfrm>
                <a:off x="2195640" y="1733400"/>
                <a:ext cx="16621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2168640" y="2928960"/>
                <a:ext cx="176040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Straight Connector 23"/>
          <p:cNvSpPr/>
          <p:nvPr/>
        </p:nvSpPr>
        <p:spPr>
          <a:xfrm flipH="1">
            <a:off x="3357360" y="3000240"/>
            <a:ext cx="285480" cy="357480"/>
          </a:xfrm>
          <a:prstGeom prst="line">
            <a:avLst/>
          </a:prstGeom>
          <a:ln w="42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4"/>
          <p:cNvSpPr/>
          <p:nvPr/>
        </p:nvSpPr>
        <p:spPr>
          <a:xfrm flipH="1">
            <a:off x="2714400" y="3571920"/>
            <a:ext cx="285480" cy="357120"/>
          </a:xfrm>
          <a:prstGeom prst="line">
            <a:avLst/>
          </a:prstGeom>
          <a:ln w="42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25"/>
          <p:cNvSpPr/>
          <p:nvPr/>
        </p:nvSpPr>
        <p:spPr>
          <a:xfrm flipH="1">
            <a:off x="3143160" y="3571920"/>
            <a:ext cx="285840" cy="357120"/>
          </a:xfrm>
          <a:prstGeom prst="line">
            <a:avLst/>
          </a:prstGeom>
          <a:ln w="42480">
            <a:solidFill>
              <a:srgbClr val="604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26"/>
          <p:cNvSpPr/>
          <p:nvPr/>
        </p:nvSpPr>
        <p:spPr>
          <a:xfrm flipH="1">
            <a:off x="2643120" y="3000240"/>
            <a:ext cx="285840" cy="357480"/>
          </a:xfrm>
          <a:prstGeom prst="line">
            <a:avLst/>
          </a:prstGeom>
          <a:ln w="42480">
            <a:solidFill>
              <a:srgbClr val="604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3727800" y="350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8"/>
          <p:cNvSpPr/>
          <p:nvPr/>
        </p:nvSpPr>
        <p:spPr>
          <a:xfrm>
            <a:off x="3799440" y="3000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29"/>
          <p:cNvSpPr/>
          <p:nvPr/>
        </p:nvSpPr>
        <p:spPr>
          <a:xfrm flipH="1">
            <a:off x="3786120" y="3571920"/>
            <a:ext cx="285840" cy="357120"/>
          </a:xfrm>
          <a:prstGeom prst="line">
            <a:avLst/>
          </a:prstGeom>
          <a:ln w="381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30"/>
          <p:cNvSpPr/>
          <p:nvPr/>
        </p:nvSpPr>
        <p:spPr>
          <a:xfrm flipH="1">
            <a:off x="3857400" y="3071880"/>
            <a:ext cx="285480" cy="357120"/>
          </a:xfrm>
          <a:prstGeom prst="line">
            <a:avLst/>
          </a:prstGeom>
          <a:ln w="381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1"/>
              <p:cNvSpPr txBox="1"/>
              <p:nvPr/>
            </p:nvSpPr>
            <p:spPr>
              <a:xfrm>
                <a:off x="2143080" y="4143240"/>
                <a:ext cx="7034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11:38:37Z</dcterms:created>
  <dc:creator>David</dc:creator>
  <dc:description/>
  <dc:language>en-US</dc:language>
  <cp:lastModifiedBy>Salem High School</cp:lastModifiedBy>
  <dcterms:modified xsi:type="dcterms:W3CDTF">2011-09-16T15:19:29Z</dcterms:modified>
  <cp:revision>18</cp:revision>
  <dc:subject/>
  <dc:title>Algebraic Fractions</dc:title>
</cp:coreProperties>
</file>